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97D-92F7-4841-934F-12E7F63E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099-DC26-40F3-A5DF-F1F8C398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CD2-3A46-4384-8090-E49AD6A8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8E5-50B6-4D88-90AF-1905C0EA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A775-E044-424C-88F2-A567939A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A116-66E9-44E3-8844-13544E1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60FE-061A-4106-B1A2-5A0C9355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D513-7F6D-4CDD-B7DD-4120B2F5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9496-C371-406A-AAEE-3B36CC46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EDF9-1981-4053-AE1A-BF2B708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EAE4-6B01-476E-864F-DE24DB9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41A-52B2-4FEA-AEC3-D13071B8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0C6A-2631-40F2-84D9-E1654A3F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C5C1-AC78-4810-9D62-0AA034CB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CE1C-C36B-4C9B-959C-52B408CB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DE4-B60C-4958-A4DA-FBDDEECA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0D2F-FADA-41E6-8E10-132ECD6D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F9E0-F2BF-4247-8E58-553772D6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0AB3-BB09-4DE6-9ABD-11653AA3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36DF-DCAE-4BFC-840D-5E3E5188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6B4D-98A3-4F83-8CB6-F7C02B9A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8EE0-A80E-4D1A-868F-05B53794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5D1-25F5-4F54-BB58-DA6A86C0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EF81-6BBF-404B-AD04-8CCC9A3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AEB3-C3AA-4FEF-9C6D-08F33F5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9D3C-64AD-4DF5-A16A-683EC094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B16B-2E0F-4AB5-9663-BB82DF2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E50E-C371-4CED-A387-29BE380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AEBF-E09B-4147-B14D-A518DB31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29CE-1782-4634-90B0-F1EC3E53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2588-E420-4BC6-93CC-900D9F77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01D7-3112-49DB-8FE8-AA5F4F50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1895-442D-4ACA-AAC3-D6F53B49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7D3-CA2D-4DE3-B1BE-2055B00B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01E7-FB71-4EE9-A6CC-4C1B8D5C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772A-1A7E-4ED6-81D0-9EE2D9FC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F9E7-A7B5-4083-815B-D080D0C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0C5F-FCD0-43F5-BA2E-02A708C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AF02-CF5D-44E0-AEC0-7D24B4B8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0080B-B74D-4320-9650-7914B3D1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BA64-E159-4F20-AFD2-53AFC957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BFF2-C683-4EB3-AA2F-9EEA0222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3035-7449-4E34-B0ED-0D34E0AD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A9D2-F4C5-4A3B-B20C-185CCDE6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8EB-6D5A-48F1-AC87-F091ADED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9C0D1-CD2C-49B3-B220-C2DCE39D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B56A4-75AD-4CEB-A6CA-C47FB723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19D7-294E-4CED-BA7B-D5AE6B4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CFA5-BFFB-4EF4-B977-74F5ABD7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12058-2E3C-4AD4-8205-E70A4EC8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E90C-48AC-46FA-A3C5-5B06BABF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3E6F1-29AF-474A-83BE-A934A9B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19C65-F7B5-4C32-B59F-90AFAA5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C239-FC0D-4AA7-B95E-5376B38F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FA165-FE4F-4CA1-B014-8313EBD8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C76-6079-49B8-AA56-BC742570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9E011-33DC-4596-B48B-6C2CB80F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60EB4-7140-44DF-92E3-7BBCCB3B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A31F-DCF7-4B4E-ACCD-7EDC9379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1FF57-F571-4889-86BC-2B3C5837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0998F-169B-4D99-978A-9B5D653B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D0D6B-1C6F-4548-85B9-0BEE0122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EF1E0-C810-47C2-8F12-C9C2D723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CB326-A37E-48EB-A11B-3D66E021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FC875-95A9-4818-9B1C-F6C1114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D764D-94A5-4E5D-85C4-E029773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9B6-BABE-4769-88DF-DF8D3A0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7F0A6-7327-41D8-A9D8-77A0FEE9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FE901-255D-49A3-B35A-32D8D6A9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CB761-0D2A-4839-81C2-3771E668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B57AE-0ED7-485C-97C1-B6FA8CE4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110DC-C956-467A-AEF5-6ED50E99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ED3E-28E3-4674-B679-C222D458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E0AAB-1ED6-429F-9A84-C14A579C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55310-7FAD-4C71-BB65-825B7069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17A7E-2A5C-444C-B5AE-398CCC91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9AB37-9F5C-4F0A-B6EC-3B0D5946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39D-19EA-46C1-87CE-D4B791CA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8CE12-04A1-4DAA-81F8-85408D7B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5D465-2755-4FE4-91CF-1D39DDBC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8DD63-C6C4-4C37-B325-57E55F4E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09BED-D407-4C33-A5CC-78C194D1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079B-C5B6-4482-9FEE-19280E96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FDEA0-E72C-4818-8076-DC1B273C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6F82D-C81F-43E8-A2A0-654C9B3A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840E6-335A-4728-AF1D-9E73ED5D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20D5E-05FA-47C6-B0BC-BCA8A99A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BDC2C-6DCC-4E76-AF0E-720C175E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C75-B4F4-42DB-B761-941F0994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F63F3-055A-41CA-AD5A-BA78DB99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3AE56-E5C6-4BBD-8ED2-8EB0486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5D1E9-F070-49DC-ABB7-9801EDB1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3CEC5-9222-4FD6-AAEB-58E6AB6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FF25C-A32A-485D-8467-67245FB4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2AFF4-FFB7-488A-9F05-0D71A00A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AB540-7000-461D-93E9-7C8745CE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0E30-D42F-4E7E-9AA2-D3DFF92C75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38F9-59F2-4CA6-8A29-D3BF861276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A3B6-D7E6-4530-AACC-78BA8C5F60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9C60-1635-4586-ACB1-81EA4FF8F7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CE38-A664-4083-8B6B-2CA0A172A7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1641-663D-4889-81CA-B6A2389882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0E89-5591-4627-8903-2A9FB8D8A8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6934-C7FB-4A96-8EE7-AAB29D9373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youtube.com/watch?v=DjcztiNGg_8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2mzDwgyk6Q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Formation of Compound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Answers to the notes outl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will be highlighted in blu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are the chemical properties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ter is a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tabl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ound that doesn’t break down under normal conditions and doesn’t react with many other substanc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acts as a medium for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emical reaction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occur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important during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hotosynthesi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-360" y="148104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Hydro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ightest and most abundant element in the univer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, odorless, tasteless, and colorless 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ctive element, so rarely found as a free el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urns into a liquid at -253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Does not conduct electric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055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roperties of Oxy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fer back to slide 1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5760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Combustion of hydrogen and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85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you make any conclusions about compounds and the elements that make them up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he physical and chemical properties of the atoms that make up compounds are very different from the compounds they crea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lements to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reac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atoms of the elements must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ollid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the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valence electro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colliding atoms that interact to form compou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member from chapter 3 that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roperti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f elements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repea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ecause the number of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valence electron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repeat in each grou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valence electrons determines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emical propertie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an ato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286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y are noble gases so unreactive and so stabl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ch noble gas (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except for Heliu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octet rul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es that atoms can become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y having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electrons in their outer energy leve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lements become more stable by achieving a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 noble gas configura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hey do this by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aining, losing or sharing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electrons with other element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many valence electrons do sodium and chlorine ha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dium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chlorine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can both sodium and chlorine achieve a full octe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alence electron of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odium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s transferred to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lorin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ato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1765800" y="5105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        +         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2"/>
          <p:cNvSpPr/>
          <p:nvPr/>
        </p:nvSpPr>
        <p:spPr>
          <a:xfrm>
            <a:off x="38098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534200" y="51055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Na ]     +     [  Cl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4"/>
          <p:cNvSpPr/>
          <p:nvPr/>
        </p:nvSpPr>
        <p:spPr>
          <a:xfrm>
            <a:off x="65530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7396560" y="5105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8"/>
          <p:cNvSpPr/>
          <p:nvPr/>
        </p:nvSpPr>
        <p:spPr>
          <a:xfrm flipH="1">
            <a:off x="6227640" y="50752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9"/>
          <p:cNvSpPr/>
          <p:nvPr/>
        </p:nvSpPr>
        <p:spPr>
          <a:xfrm flipH="1">
            <a:off x="3360600" y="521028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0"/>
          <p:cNvSpPr/>
          <p:nvPr/>
        </p:nvSpPr>
        <p:spPr>
          <a:xfrm flipH="1">
            <a:off x="6324480" y="5305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1"/>
          <p:cNvSpPr/>
          <p:nvPr/>
        </p:nvSpPr>
        <p:spPr>
          <a:xfrm flipH="1">
            <a:off x="3700440" y="522936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2"/>
          <p:cNvSpPr/>
          <p:nvPr/>
        </p:nvSpPr>
        <p:spPr>
          <a:xfrm flipH="1">
            <a:off x="3624120" y="50734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 flipH="1">
            <a:off x="3467160" y="5386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4"/>
          <p:cNvSpPr/>
          <p:nvPr/>
        </p:nvSpPr>
        <p:spPr>
          <a:xfrm flipH="1">
            <a:off x="3504600" y="507204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5"/>
          <p:cNvSpPr/>
          <p:nvPr/>
        </p:nvSpPr>
        <p:spPr>
          <a:xfrm flipH="1">
            <a:off x="5992200" y="5275440"/>
            <a:ext cx="7596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6"/>
          <p:cNvSpPr/>
          <p:nvPr/>
        </p:nvSpPr>
        <p:spPr>
          <a:xfrm flipH="1">
            <a:off x="5987880" y="51721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7"/>
          <p:cNvSpPr/>
          <p:nvPr/>
        </p:nvSpPr>
        <p:spPr>
          <a:xfrm flipH="1">
            <a:off x="3601440" y="539748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8"/>
          <p:cNvSpPr/>
          <p:nvPr/>
        </p:nvSpPr>
        <p:spPr>
          <a:xfrm flipH="1">
            <a:off x="6095880" y="53974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9"/>
          <p:cNvSpPr/>
          <p:nvPr/>
        </p:nvSpPr>
        <p:spPr>
          <a:xfrm flipH="1">
            <a:off x="6324480" y="51721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0"/>
          <p:cNvSpPr/>
          <p:nvPr/>
        </p:nvSpPr>
        <p:spPr>
          <a:xfrm flipH="1">
            <a:off x="6099120" y="50752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21"/>
          <p:cNvSpPr/>
          <p:nvPr/>
        </p:nvSpPr>
        <p:spPr>
          <a:xfrm flipH="1">
            <a:off x="3360600" y="531036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22"/>
          <p:cNvSpPr/>
          <p:nvPr/>
        </p:nvSpPr>
        <p:spPr>
          <a:xfrm flipH="1">
            <a:off x="6247800" y="538632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3"/>
          <p:cNvSpPr/>
          <p:nvPr/>
        </p:nvSpPr>
        <p:spPr>
          <a:xfrm flipH="1">
            <a:off x="2209680" y="5251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5046840" y="4944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6404400" y="48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3120" y="1371240"/>
            <a:ext cx="884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sodium transfers its one valence electron to chlorine both atoms become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charg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particles called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tals (like sodium)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lose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lectrons and becom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positivel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harged particles called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-metals (like chlorine)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electrons and becom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negativel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harged particles called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an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strong attractive force between ions of opposite charge creates an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ionic bo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compound that is composed of ions is called an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ionic</a:t>
            </a:r>
            <a:r>
              <a:rPr b="0" lang="en-US" sz="20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ompou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0" y="1339920"/>
            <a:ext cx="41911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very + sodium atom attracts every – chlorine atom and vice vers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ions organize themselves into a definit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ub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shaped arrangement called a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crystal is a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regular, repeating arrangement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f atoms, ions, or molecul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rcRect l="3388" t="9306" r="4396" b="0"/>
          <a:stretch/>
        </p:blipFill>
        <p:spPr>
          <a:xfrm>
            <a:off x="3505320" y="5562720"/>
            <a:ext cx="2546280" cy="11318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2"/>
          <p:cNvSpPr/>
          <p:nvPr/>
        </p:nvSpPr>
        <p:spPr>
          <a:xfrm>
            <a:off x="5257800" y="1339920"/>
            <a:ext cx="3713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formul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of a compound tells what elements make up the compound and how many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atom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of each element are present in one unit of the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dium chloride = 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dium atom and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hlorine atom make up one unit of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atoms collide with enough energy to react, but neither attracts electrons strongly enough to take electrons from the other atom, the atoms combine by sharing valence electr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lectrons can only be shared to form molecules when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2 nonmetals collid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: Compounds cannot be formed from two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metal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!!!!!!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he attraction of 2 atoms for a shared pair of electrons is called 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covalent bond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 compound whose atoms are held together by covalent bonds is 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covalent compound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also called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molecular compounds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molecule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is an uncharged group of 2 or more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non-metal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atoms held together by covalent bond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Single, double and triple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valent bonds are possible when 1, 2 or 3 pairs of electrons are shared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371520" y="274680"/>
            <a:ext cx="84009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sodium and chlorine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t is found in large, solid, underground deposits and dissolved in the ocea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To enhance food flavo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To melt ice on roadway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-36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Well-organized, tightly bound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rm crystal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ard, rough, and brittl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igh melting poin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oluble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nduct electricity when dissolved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ny compound that conducts electricity when melted or dissolved in water is an electrolyt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10552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Covalent Compoun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ttractive forces between molecules are weak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he forces between particles that make up a substance are called interparticle forc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Liquids or gases at room tempera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 not conduct electrici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 not dissolve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3712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some physical properties of NaC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ite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 crystalline, soli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 room temperatur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britt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lts at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800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dissolves easily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 wa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ly conducts electricity in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aqueou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(dissolved in water) or when melte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SzPct val="125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some chemical properties of NaC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t does not react readily with other substance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70c0"/>
                </a:solidFill>
                <a:latin typeface="Lucida Sans Unicode"/>
              </a:rPr>
              <a:t>    </a:t>
            </a:r>
            <a:r>
              <a:rPr b="0" lang="en-US" sz="2100" spc="-1" strike="noStrike">
                <a:solidFill>
                  <a:srgbClr val="0070c0"/>
                </a:solidFill>
                <a:latin typeface="Lucida Sans Unicode"/>
              </a:rPr>
              <a:t>(it is stable or unreactiv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20840" y="128520"/>
            <a:ext cx="84312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4" descr=""/>
          <p:cNvPicPr/>
          <p:nvPr/>
        </p:nvPicPr>
        <p:blipFill>
          <a:blip r:embed="rId1"/>
          <a:stretch/>
        </p:blipFill>
        <p:spPr>
          <a:xfrm>
            <a:off x="281160" y="212760"/>
            <a:ext cx="8339040" cy="151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7280" y="152388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Sodiu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hiny, silvery-white, soft, metallic soli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lts at 98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tored in oil because it reacts with oxygen and water vapor in ai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e of the most reactive of the common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lways found combined with other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08040" y="152388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Chlor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-metallic pale green, poisonous ga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Kills living cel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d as a disinfecta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denses into a liquid at -34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e of the most reactive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as industrial impor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4114800" y="6211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Reaction of Sodium and 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arbon and two oxygen a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the atmosp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your bloodstream as a waste product of cellular respira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t is used by plants to make glucose (photosynthesi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lifeadrift.info/media/2316/photosynthesis_equation.jpg"/>
          <p:cNvPicPr/>
          <p:nvPr/>
        </p:nvPicPr>
        <p:blipFill>
          <a:blip r:embed="rId2"/>
          <a:stretch/>
        </p:blipFill>
        <p:spPr>
          <a:xfrm>
            <a:off x="4313160" y="5359320"/>
            <a:ext cx="40687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-76680" y="144792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the physical properties of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a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colorless, odorles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nd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asteless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-80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gas changes directly to white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 solid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without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irst becoming a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liquid (dry ice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soluble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 water, but a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weak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onductor of electric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the chemical properties of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relatively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sta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used in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fire extinguisher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cause it does not support burn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involved in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photosynthesi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3264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0" y="1295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Oxy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, colorless, odorless, and tasteless 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xygen supports burn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comes a liquid when cooled to -183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ore reactive than carbon and combines with many other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ost abundant element in the Earth’s cru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6000" y="1295280"/>
            <a:ext cx="44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Carb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 and unreactive at room tempera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cts with other elements at high temperatu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rbon burns easily and is a good source of he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rm a huge variety of compounds (organic chemistry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4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2280" y="148104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two hydrogen atoms and one oxygen at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approximately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70%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Earth’s surfac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about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70%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the mass of the average human body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chemistry water dissolves chemicals so that can interact with other chemicals to create chemical reac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are the physical properties of wat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the only 1 of the 3 compounds that occurs in Earth’s environment in all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3 states of mat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turns into a gas at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and turns into a solid at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0°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re water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does no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onduct electricity as a solid, liquid, or a g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called the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universal solven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because it is good at dissolving other substanc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important in transport of material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56:50Z</dcterms:created>
  <dc:creator>udsd</dc:creator>
  <dc:description/>
  <dc:language>en-US</dc:language>
  <cp:lastModifiedBy>Dawn</cp:lastModifiedBy>
  <dcterms:modified xsi:type="dcterms:W3CDTF">2013-01-02T02:10:49Z</dcterms:modified>
  <cp:revision>56</cp:revision>
  <dc:subject/>
  <dc:title>Chapter 4</dc:title>
</cp:coreProperties>
</file>